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27B-03DB-4C01-92D4-D597490A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05A-CFAA-487E-9325-C859F31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FCF-B248-4B86-A67F-69BC4F02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F59-E9E8-4242-95B8-F59680BC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272-72F4-49C5-ABA5-D78739C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B5-FC56-4150-900A-DCC9B33C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AD4-29E5-4165-ADB3-3B9DF13A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97F-3F6E-4AEE-BEB0-FE2F111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0C8-FA9A-434E-A45B-ABE69365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F14-3D5C-43C2-AA98-2208BA3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8FE-8194-424A-A338-320A88C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913-12A2-4AC4-B31D-E0FF878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9E9-8003-4DAC-922D-6C17B9E5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040" y="3179880"/>
            <a:ext cx="257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42480" y="121932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N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74080" y="226836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3960" y="27385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3160" y="31827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8560" y="348444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4240" y="378936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720" y="4094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360" y="4703760"/>
            <a:ext cx="14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0" y="439884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termin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8520" y="227340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96960" y="27432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6520" y="31878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2640" y="3489480"/>
            <a:ext cx="13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7960" y="3794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94080" y="40989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4080" y="4708440"/>
            <a:ext cx="14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93720" y="4403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conoc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19440" y="2273400"/>
            <a:ext cx="5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13960" y="274320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01720" y="3187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071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03160" y="3794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09280" y="40989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09280" y="47084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08920" y="440388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3560" y="16081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90920" y="2651040"/>
            <a:ext cx="266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9960" y="1219320"/>
            <a:ext cx="60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EFINIDO: IRREGULARES MÁS FREC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46880" y="2651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7480" y="21337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ER/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7600" y="2955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7600" y="32608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42560" y="3565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47240" y="387036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ist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3720" y="4175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fu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800600" y="4373640"/>
            <a:ext cx="396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Casi todos los verbos acabados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i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hacen la 3ª persona del plural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ero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cir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algunos otros verbos acabados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la hacen en -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ro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80880" y="1539720"/>
            <a:ext cx="3208320" cy="1639800"/>
            <a:chOff x="380880" y="1539720"/>
            <a:chExt cx="3208320" cy="1639800"/>
          </a:xfrm>
        </p:grpSpPr>
        <p:sp>
          <p:nvSpPr>
            <p:cNvPr id="79" name=""/>
            <p:cNvSpPr/>
            <p:nvPr/>
          </p:nvSpPr>
          <p:spPr>
            <a:xfrm>
              <a:off x="1913040" y="1539720"/>
              <a:ext cx="1676160" cy="1639800"/>
            </a:xfrm>
            <a:prstGeom prst="rect">
              <a:avLst/>
            </a:prstGeom>
            <a:solidFill>
              <a:srgbClr val="fff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156204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aíz irregula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800" y="1558800"/>
              <a:ext cx="7462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od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on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quer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n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i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a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ab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42920" y="1558800"/>
              <a:ext cx="704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pud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pus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quis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tuv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vin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stuv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sup</a:t>
              </a:r>
              <a:r>
                <a:rPr b="0" lang="es-ES_tradnl" sz="1400" spc="-1" strike="noStrike">
                  <a:solidFill>
                    <a:srgbClr val="008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05880" y="3657600"/>
            <a:ext cx="186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448080"/>
            <a:ext cx="89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z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hic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44840"/>
            <a:ext cx="895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s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di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ero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3000" y="89388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EFINIDO: VERBOS IRRE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306320" y="1538280"/>
            <a:ext cx="4151520" cy="1447560"/>
            <a:chOff x="4306320" y="1538280"/>
            <a:chExt cx="4151520" cy="1447560"/>
          </a:xfrm>
        </p:grpSpPr>
        <p:sp>
          <p:nvSpPr>
            <p:cNvPr id="88" name=""/>
            <p:cNvSpPr/>
            <p:nvPr/>
          </p:nvSpPr>
          <p:spPr>
            <a:xfrm>
              <a:off x="5914800" y="1538280"/>
              <a:ext cx="2543040" cy="1447560"/>
            </a:xfrm>
            <a:prstGeom prst="rect">
              <a:avLst/>
            </a:prstGeom>
            <a:solidFill>
              <a:srgbClr val="fff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1200" y="1554120"/>
              <a:ext cx="1861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56920" y="1562040"/>
              <a:ext cx="6973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ste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ie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06320" y="1562040"/>
              <a:ext cx="15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rminaci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977200" y="594360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uve, tu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86680" y="59436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ne, vin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75440" y="5943600"/>
            <a:ext cx="957960" cy="307080"/>
            <a:chOff x="1675440" y="5943600"/>
            <a:chExt cx="957960" cy="307080"/>
          </a:xfrm>
        </p:grpSpPr>
        <p:sp>
          <p:nvSpPr>
            <p:cNvPr id="95" name=""/>
            <p:cNvSpPr/>
            <p:nvPr/>
          </p:nvSpPr>
          <p:spPr>
            <a:xfrm>
              <a:off x="1675440" y="594360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uvé, tuv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844280" y="6024600"/>
              <a:ext cx="609120" cy="160200"/>
              <a:chOff x="1844280" y="6024600"/>
              <a:chExt cx="609120" cy="16020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1844280" y="6024600"/>
                <a:ext cx="608760" cy="16020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44640" y="6024600"/>
                <a:ext cx="608760" cy="16020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007960" y="5943600"/>
            <a:ext cx="936720" cy="307080"/>
            <a:chOff x="5007960" y="5943600"/>
            <a:chExt cx="936720" cy="307080"/>
          </a:xfrm>
        </p:grpSpPr>
        <p:sp>
          <p:nvSpPr>
            <p:cNvPr id="100" name=""/>
            <p:cNvSpPr/>
            <p:nvPr/>
          </p:nvSpPr>
          <p:spPr>
            <a:xfrm>
              <a:off x="5007960" y="59436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iné, vin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176440" y="6019560"/>
              <a:ext cx="609120" cy="160560"/>
              <a:chOff x="5176440" y="6019560"/>
              <a:chExt cx="609120" cy="16056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5176440" y="6019560"/>
                <a:ext cx="608760" cy="160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76800" y="6019560"/>
                <a:ext cx="608760" cy="160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66688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7528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8920" y="5246640"/>
            <a:ext cx="8674200" cy="607320"/>
            <a:chOff x="88920" y="5246640"/>
            <a:chExt cx="8674200" cy="6073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88920" y="5246640"/>
              <a:ext cx="511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333760"/>
              <a:ext cx="830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uchos indefinidos irregulares tienen un cambio de sílaba tónica: en la primera persona singular (yo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y en la tercera singular (él, ella, usted) el acento no recae en la terminación sino en la raí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5" name="camera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920" y="3027240"/>
            <a:ext cx="2590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920" y="107172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68720" y="1447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5240" y="211608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55120" y="25858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3240" y="3030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9720" y="3332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5040" y="36370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1160" y="39416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áb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1520" y="45514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51520" y="4246560"/>
            <a:ext cx="13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b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50680" y="2120760"/>
            <a:ext cx="6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09200" y="25909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9120" y="3035160"/>
            <a:ext cx="7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05240" y="3336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0560" y="3641760"/>
            <a:ext cx="7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6680" y="3946680"/>
            <a:ext cx="12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7040" y="4556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06320" y="42512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ten</a:t>
            </a: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76440" y="2120760"/>
            <a:ext cx="5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0960" y="259092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720" y="30351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64840" y="33368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160" y="36417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39466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6640" y="45561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6280" y="4251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iv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93560" y="272736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él, ella, 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vosotros/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llos, ellas, uste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8920" y="107172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IM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3360" y="14479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BOS IRREG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0840" y="2286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78960" y="27306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85440" y="3032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0" y="3336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6880" y="36417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ヒラギノ角ゴ Pro W3"/>
              </a:rPr>
              <a:t>é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87240" y="4251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87600" y="39466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4920" y="2290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8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3760" y="27352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9880" y="30369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560" y="33415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41320" y="36464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íb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41680" y="4255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3951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80"/>
                </a:solidFill>
                <a:latin typeface="Arial"/>
              </a:rPr>
              <a:t>ib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22906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3720" y="2735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9840" y="3036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95160" y="3341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01640" y="36464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01640" y="42559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02360" y="3951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veí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14120" y="4114800"/>
            <a:ext cx="39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do terminó los estu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e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77680" y="1203480"/>
            <a:ext cx="38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CHAR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4840" y="311616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do llegaste a Españ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arzo de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6640" y="1981080"/>
            <a:ext cx="39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día nació su hija?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4 de agosto de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5920" y="4937040"/>
            <a:ext cx="30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n qué año se cas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217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7080" y="33210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7440" y="4692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333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3465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4463640"/>
            <a:ext cx="914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914400" cy="43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10" name="camera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0160" y="990720"/>
            <a:ext cx="48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R ACONTECIMI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A BIOGRAFÍA DE UN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7840" y="2422440"/>
            <a:ext cx="54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ten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inco años / meses / seman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95480" y="312408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e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iño / joven / soltero / estudia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93000" y="4267080"/>
            <a:ext cx="4113720" cy="703800"/>
            <a:chOff x="2493000" y="4267080"/>
            <a:chExt cx="4113720" cy="703800"/>
          </a:xfrm>
        </p:grpSpPr>
        <p:sp>
          <p:nvSpPr>
            <p:cNvPr id="176" name=""/>
            <p:cNvSpPr/>
            <p:nvPr/>
          </p:nvSpPr>
          <p:spPr>
            <a:xfrm>
              <a:off x="3867120" y="4267080"/>
              <a:ext cx="273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erminó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estudi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mplió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18 añ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93000" y="44038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an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625560" y="4303800"/>
              <a:ext cx="228600" cy="609480"/>
              <a:chOff x="3625560" y="4303800"/>
              <a:chExt cx="228600" cy="60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3740040" y="43038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740040" y="430380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40040" y="491328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625560" y="461160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155760" y="5165640"/>
            <a:ext cx="3550320" cy="703800"/>
            <a:chOff x="3155760" y="5165640"/>
            <a:chExt cx="3550320" cy="703800"/>
          </a:xfrm>
        </p:grpSpPr>
        <p:sp>
          <p:nvSpPr>
            <p:cNvPr id="184" name=""/>
            <p:cNvSpPr/>
            <p:nvPr/>
          </p:nvSpPr>
          <p:spPr>
            <a:xfrm>
              <a:off x="3155760" y="5302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1160" y="5165640"/>
              <a:ext cx="282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erminar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os estudi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umplir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los 18 años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41400" y="5194440"/>
              <a:ext cx="228600" cy="609480"/>
              <a:chOff x="3641400" y="5194440"/>
              <a:chExt cx="228600" cy="609480"/>
            </a:xfrm>
          </p:grpSpPr>
          <p:sp>
            <p:nvSpPr>
              <p:cNvPr id="187" name=""/>
              <p:cNvSpPr/>
              <p:nvPr/>
            </p:nvSpPr>
            <p:spPr>
              <a:xfrm>
                <a:off x="3755880" y="5194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755880" y="519444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755880" y="580392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3641400" y="550224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988640" y="2101680"/>
            <a:ext cx="22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l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inco añ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95840" y="344484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iño / joven / soltero / estudiante / may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401004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Fui a la facultad, per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estuve en la bibliote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59080" y="1143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AR ACONTE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4200" y="1825560"/>
            <a:ext cx="236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consecu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4040" y="2298600"/>
            <a:ext cx="61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u familia era humilde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sí qu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tuvo que trabajar para pagarse los estu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720" y="3260880"/>
            <a:ext cx="167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rcar un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360" y="5257800"/>
            <a:ext cx="20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+ INFIN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8680" y="571500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+ INFIN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67200" y="1676520"/>
            <a:ext cx="823680" cy="579960"/>
            <a:chOff x="3967200" y="1676520"/>
            <a:chExt cx="823680" cy="579960"/>
          </a:xfrm>
        </p:grpSpPr>
        <p:sp>
          <p:nvSpPr>
            <p:cNvPr id="201" name=""/>
            <p:cNvSpPr/>
            <p:nvPr/>
          </p:nvSpPr>
          <p:spPr>
            <a:xfrm>
              <a:off x="3971160" y="16765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sí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67200" y="194940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or 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1840" y="2971800"/>
            <a:ext cx="1278000" cy="888120"/>
            <a:chOff x="3201840" y="2971800"/>
            <a:chExt cx="1278000" cy="888120"/>
          </a:xfrm>
        </p:grpSpPr>
        <p:sp>
          <p:nvSpPr>
            <p:cNvPr id="204" name=""/>
            <p:cNvSpPr/>
            <p:nvPr/>
          </p:nvSpPr>
          <p:spPr>
            <a:xfrm>
              <a:off x="3222000" y="297180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tes (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01840" y="3270240"/>
              <a:ext cx="12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spués (d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6880" y="35528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u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106800" y="1978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7492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89840" y="4395960"/>
            <a:ext cx="4529520" cy="520200"/>
            <a:chOff x="789840" y="4395960"/>
            <a:chExt cx="4529520" cy="520200"/>
          </a:xfrm>
        </p:grpSpPr>
        <p:sp>
          <p:nvSpPr>
            <p:cNvPr id="210" name=""/>
            <p:cNvSpPr/>
            <p:nvPr/>
          </p:nvSpPr>
          <p:spPr>
            <a:xfrm>
              <a:off x="3113280" y="4395960"/>
              <a:ext cx="220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spués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fui a la facult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luego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volví a ca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9840" y="447984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stuve en la bibliotec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958840" y="4456080"/>
              <a:ext cx="128520" cy="409680"/>
              <a:chOff x="2958840" y="4456080"/>
              <a:chExt cx="128520" cy="409680"/>
            </a:xfrm>
          </p:grpSpPr>
          <p:sp>
            <p:nvSpPr>
              <p:cNvPr id="213" name=""/>
              <p:cNvSpPr/>
              <p:nvPr/>
            </p:nvSpPr>
            <p:spPr>
              <a:xfrm>
                <a:off x="3023280" y="4456080"/>
                <a:ext cx="0" cy="4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023280" y="4456080"/>
                <a:ext cx="6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023280" y="4865760"/>
                <a:ext cx="6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958840" y="4663080"/>
                <a:ext cx="6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118320" y="5249880"/>
            <a:ext cx="40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tes 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 la facultad, estuve en la bibliote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00320" y="571500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pués d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 la biblioteca, fui a la facult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4560" y="2558880"/>
            <a:ext cx="39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mpezó a llover,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r es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anularon el concier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4" name="camera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6:15:13Z</dcterms:created>
  <dc:creator>USER</dc:creator>
  <dc:description/>
  <dc:language>en-US</dc:language>
  <cp:lastModifiedBy>Difusión</cp:lastModifiedBy>
  <cp:lastPrinted>2007-06-19T14:18:39Z</cp:lastPrinted>
  <dcterms:modified xsi:type="dcterms:W3CDTF">2007-06-20T13:26:57Z</dcterms:modified>
  <cp:revision>106</cp:revision>
  <dc:subject/>
  <dc:title>Παρουσίαση του PowerPoint</dc:title>
</cp:coreProperties>
</file>